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359080" y="1412640"/>
            <a:ext cx="70992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359080" y="3782520"/>
            <a:ext cx="70992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359080" y="141264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96880" y="141264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359080" y="378252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96880" y="378252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359080" y="1412640"/>
            <a:ext cx="22856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9560" y="1412640"/>
            <a:ext cx="22856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159680" y="1412640"/>
            <a:ext cx="22856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359080" y="3782520"/>
            <a:ext cx="22856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759560" y="3782520"/>
            <a:ext cx="22856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159680" y="3782520"/>
            <a:ext cx="22856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359080" y="1412640"/>
            <a:ext cx="709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59080" y="1412640"/>
            <a:ext cx="709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59080" y="1412640"/>
            <a:ext cx="34642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96880" y="1412640"/>
            <a:ext cx="34642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47840" y="279360"/>
            <a:ext cx="70992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359080" y="141264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96880" y="1412640"/>
            <a:ext cx="34642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359080" y="378252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359080" y="1412640"/>
            <a:ext cx="709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359080" y="1412640"/>
            <a:ext cx="34642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96880" y="141264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96880" y="378252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359080" y="141264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96880" y="141264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359080" y="3782520"/>
            <a:ext cx="70992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59080" y="1412640"/>
            <a:ext cx="70992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359080" y="3782520"/>
            <a:ext cx="70992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59080" y="141264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96880" y="141264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359080" y="378252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96880" y="378252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359080" y="1412640"/>
            <a:ext cx="22856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9560" y="1412640"/>
            <a:ext cx="22856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159680" y="1412640"/>
            <a:ext cx="22856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359080" y="3782520"/>
            <a:ext cx="22856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759560" y="3782520"/>
            <a:ext cx="22856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159680" y="3782520"/>
            <a:ext cx="22856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359080" y="1412640"/>
            <a:ext cx="709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359080" y="1412640"/>
            <a:ext cx="34642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96880" y="1412640"/>
            <a:ext cx="34642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47840" y="279360"/>
            <a:ext cx="70992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59080" y="141264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96880" y="1412640"/>
            <a:ext cx="34642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59080" y="378252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59080" y="1412640"/>
            <a:ext cx="34642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96880" y="141264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6880" y="378252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59080" y="141264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6880" y="141264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359080" y="3782520"/>
            <a:ext cx="70992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6040" y="154080"/>
            <a:ext cx="955224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359080" y="1412640"/>
            <a:ext cx="709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359080" y="6453000"/>
            <a:ext cx="709920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E5DA2622-7670-43C5-886F-339D7599A255}" type="datetime">
              <a:rPr b="0" lang="de-DE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4B1378A7-6CAD-4E3E-9C97-08793F0F541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80240" y="154080"/>
            <a:ext cx="99864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36120" y="154080"/>
            <a:ext cx="9921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290160" y="0"/>
            <a:ext cx="61596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74760" y="6442200"/>
            <a:ext cx="1360440" cy="282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121600" y="595440"/>
            <a:ext cx="15969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6040" y="154080"/>
            <a:ext cx="955224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6040" y="2924280"/>
            <a:ext cx="955224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7480" y="3050640"/>
            <a:ext cx="90104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290160" y="0"/>
            <a:ext cx="61596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41280" y="6122880"/>
            <a:ext cx="2224080" cy="457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7480" y="3050640"/>
            <a:ext cx="90104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ertification concept for Project Managers</a:t>
            </a:r>
            <a:br>
              <a:rPr sz="3200"/>
            </a:br>
            <a:r>
              <a:rPr b="1" lang="en-GB" sz="2400" spc="-1" strike="noStrike">
                <a:solidFill>
                  <a:srgbClr val="6d2435"/>
                </a:solidFill>
                <a:latin typeface="Arial"/>
              </a:rPr>
              <a:t>Project Management @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d2435"/>
                </a:solidFill>
                <a:latin typeface="Arial"/>
              </a:rPr>
              <a:t>COM M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7480" y="4184280"/>
            <a:ext cx="901044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 MD BL PSO CD, Michael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290160" y="0"/>
            <a:ext cx="61596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4240" y="4703760"/>
            <a:ext cx="3508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e1d3e"/>
                </a:solidFill>
                <a:latin typeface="Arial"/>
              </a:rPr>
              <a:t>– </a:t>
            </a:r>
            <a:r>
              <a:rPr b="1" lang="en-GB" sz="2400" spc="-1" strike="noStrike">
                <a:solidFill>
                  <a:srgbClr val="9e1d3e"/>
                </a:solidFill>
                <a:latin typeface="Arial"/>
              </a:rPr>
              <a:t>For internal use only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2000" y="142920"/>
            <a:ext cx="955656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pt for PM certification / Involved ro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1760" y="1335240"/>
            <a:ext cx="8036280" cy="38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 certification is an integral part of the project leader certification at Com 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 certification will be handled similar to the SPM cer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ment of PM is handled as an individual assessment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ation of the PM certification assessment: 3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is on project management topics, leadership, team and communic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ed 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are based on the “knowledge tes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ed Assesso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„Fach“ Assessors from Com 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Psychological Assessor (e. g. from Com HR / Com MD HR or exter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for internal use onl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ssment is focused on the following 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1600" y="1335240"/>
            <a:ext cx="507996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management topic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 management, contract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cal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management method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management 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control and repor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-solving and decision ma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techniques, time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ability/ Result ori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33440" y="1341360"/>
            <a:ext cx="37980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dership topic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ching compet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vation 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ing with conflicts and st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92760" y="3933720"/>
            <a:ext cx="28317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cation topic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33080" y="2997360"/>
            <a:ext cx="3214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amwork topic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 work, team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12880" y="5516640"/>
            <a:ext cx="6481800" cy="431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 total: 18 topics within 120 min, means 6-7 min/top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for internal use onl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riteria for successful passing the PM assessment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8320" y="1347840"/>
            <a:ext cx="810072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Block 1 : 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Project Management topics (in total 11 topic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Candidate can have 3 topics with a „2“ rat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Block 2 :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Leadership / Teamwork / Communication topics ( in total 7 topic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Candidate can have 2 topics with a „2“ rat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for internal use onl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ed agenda for PM assessment meet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ning se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0320" y="1371600"/>
            <a:ext cx="684036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.30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rt of the Assessment, Welcome and  Introdu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.4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ject Manager presents his/her current project (on max. 5 slide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.5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estions from Assessors concerning the project wo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.1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estions from Assessors concerning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project mana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project leadershi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team orien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communication skil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.3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cussion and documentation of the results within the assessor te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1.1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mmunication of the result to the project manag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1.3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d of the assessmen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for internal use onl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ed agenda for PM assessment meet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noon se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0320" y="1371600"/>
            <a:ext cx="684036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2.30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rt of the Assessment, Welcome and  Introdu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2.4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ject Manager presents his/her current project (on max. 5 slide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2.5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estions from Assessors concerning the project wo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3.1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estions from Assessors concerning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project mana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project leadershi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team orien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communication skil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4.3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cussion and documentation of the results within the assessor te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5.1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mmunication of the result to the project manag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5.3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d of the assessmen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for internal use onl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ed agenda for PM assessment meet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ning se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0320" y="1371600"/>
            <a:ext cx="684036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6.00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rt of the Assessment, Welcome and  Introdu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6.1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ject Manager presents his/her current project (on max. 5 slide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6.2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estions from Assessors concerning the project wo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6.4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estions from Assessors concerning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project mana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project leadershi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team orien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communication skil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8.0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cussion and documentation of the results within the assessor te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8.4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mmunication of the result to the project manag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.0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d of the assessmen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for internal use onl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sm048137</cp:lastModifiedBy>
  <cp:lastPrinted>2004-03-18T12:12:20Z</cp:lastPrinted>
  <dcterms:modified xsi:type="dcterms:W3CDTF">2005-07-06T07:15:45Z</dcterms:modified>
  <cp:revision>2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48211552</vt:r8>
  </property>
  <property fmtid="{D5CDD505-2E9C-101B-9397-08002B2CF9AE}" pid="3" name="_AuthorEmail">
    <vt:lpwstr>Michael.Stock@siemens.com</vt:lpwstr>
  </property>
  <property fmtid="{D5CDD505-2E9C-101B-9397-08002B2CF9AE}" pid="4" name="_AuthorEmailDisplayName">
    <vt:lpwstr>Stock Michael Com MD BL PSO CD</vt:lpwstr>
  </property>
  <property fmtid="{D5CDD505-2E9C-101B-9397-08002B2CF9AE}" pid="5" name="_EmailSubject">
    <vt:lpwstr>Fragenkatalog und Ablauf für PM Zertifizierung</vt:lpwstr>
  </property>
</Properties>
</file>